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C447C-6A95-467D-870F-F696E8B86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7C48B-DE6A-49F4-8973-6FC58E922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C9A5F-C419-457C-8705-BDD48432A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2529F-5A6F-45B3-B754-A4B3A1AD1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AFC66-BA54-4D14-BB2A-272F34978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65ACD-9B16-4097-B198-92D81E17E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F1F1F-5651-40CB-976A-7CA8A6D59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08A19-89A2-438D-B89B-5AD64035B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69992-ED60-4202-8163-E260C4791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E296D-A32C-4CC0-B8EA-4A8FD4182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FDB21-B4A2-4C36-9805-37B408A28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E27A5-E3E5-4F6B-8CD6-7669925D1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C570D-AE3D-4898-A4C8-5577B7F906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19200" y="1400040"/>
          <a:ext cx="6105600" cy="405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9200" y="1400040"/>
                    <a:ext cx="610560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3:31Z</dcterms:created>
  <dc:creator>Oliver Craemer</dc:creator>
  <dc:description/>
  <dc:language>en-US</dc:language>
  <cp:lastModifiedBy>Oliver Craemer</cp:lastModifiedBy>
  <dcterms:modified xsi:type="dcterms:W3CDTF">2005-01-06T09:23:42Z</dcterms:modified>
  <cp:revision>1</cp:revision>
  <dc:subject/>
  <dc:title>Slide 1</dc:title>
</cp:coreProperties>
</file>