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663829"/>
        <c:axId val="69518619"/>
      </c:barChart>
      <c:catAx>
        <c:axId val="276638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18619"/>
        <c:crosses val="autoZero"/>
        <c:auto val="1"/>
        <c:lblAlgn val="ctr"/>
        <c:lblOffset val="100"/>
        <c:noMultiLvlLbl val="0"/>
      </c:catAx>
      <c:valAx>
        <c:axId val="695186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638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2219-8768-4A74-AA5E-BA4CA763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A75D-2340-4763-BC98-51B0FF90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82F7-C152-41A9-B9D4-F1D3DED3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A7F-0B18-4419-9079-32D75187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D39B-231F-4A89-ADAE-C4BB5C42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2E98-AAED-4AFE-8FE8-1CF57A8F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E2D-48F8-4363-B2E8-868D69AC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E56B-C75B-4922-8FE3-6D6C1C78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D6D-E1E9-45C5-A91E-99226352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BC2C-E787-434A-A35E-D0F8AF6E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12F8-1E20-4D30-80AA-0FA3D4D6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7C66-13C0-4363-8FD7-5A2D06A0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8F1BA-B2E0-4291-9680-9AEAE3CBA4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