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01772"/>
        <c:axId val="55815292"/>
      </c:barChart>
      <c:catAx>
        <c:axId val="82501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5292"/>
        <c:crosses val="autoZero"/>
        <c:auto val="1"/>
        <c:lblAlgn val="ctr"/>
        <c:lblOffset val="100"/>
        <c:noMultiLvlLbl val="0"/>
      </c:catAx>
      <c:valAx>
        <c:axId val="55815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1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E19-79E4-4692-83E2-859D9298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227-DEE6-4EF5-9485-984BB16A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C2C-E9D0-41A5-BCA2-C2799CC1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AE8-06A0-426E-9C66-A5C198E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0BA-F08B-48B1-B5A3-255E7827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8F4-2CFD-4984-8F99-D25D770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CA1-90BF-4FE9-A6AD-665528FE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355-B378-4E82-87B6-9A5C09B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712-6BF1-496C-B61A-6D8E0BA4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AB7-2A62-43D7-93F2-A650E382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A2E-02CE-4E1D-8C08-D5FCC10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ED4-1F0A-432B-A9C1-84D4DD1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376E1-0910-49CC-A4C9-900E66804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