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14291"/>
        <c:axId val="72831559"/>
      </c:barChart>
      <c:catAx>
        <c:axId val="702142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31559"/>
        <c:crosses val="autoZero"/>
        <c:auto val="1"/>
        <c:lblAlgn val="ctr"/>
        <c:lblOffset val="100"/>
        <c:noMultiLvlLbl val="0"/>
      </c:catAx>
      <c:valAx>
        <c:axId val="72831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142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3B0-0D45-42F1-9EE0-F288C6FC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98E-03C4-4E55-BB0D-B88AF165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21F-DA74-41A4-B657-72C59756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5C1-906B-476A-BDC1-FDB13748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32B-251B-48F8-9CD3-EFD9FD40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C93-AA4F-43BA-A313-D9B7DCDA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2E1-B7C1-4A71-89A2-EB1210A9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586-9F44-4D4A-8273-7D8356F9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56C-6EA0-4F09-A017-A3CE4D9B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5F9-4DC9-4E3F-86BB-4D75D67F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3930-69E4-4C5C-885E-E9635691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FA4-9496-4FC3-AA12-AC474957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6D3DD-5386-4FDD-A08C-C188BCA7AC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