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98280"/>
        <c:axId val="47895874"/>
      </c:barChart>
      <c:catAx>
        <c:axId val="33498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5874"/>
        <c:crosses val="autoZero"/>
        <c:auto val="1"/>
        <c:lblAlgn val="ctr"/>
        <c:lblOffset val="100"/>
        <c:noMultiLvlLbl val="0"/>
      </c:catAx>
      <c:valAx>
        <c:axId val="47895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98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2B8-4CE7-45DB-9F00-50BFFDB7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0B2-6989-4A2A-AF86-FF72BBD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7BB-7ABF-4E09-B4A9-3F8F8E4C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359-72D3-442C-80B4-90735C1E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BF4-C183-4F1D-A054-09A4E5A9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92F-0838-4284-B6ED-B56B868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A9F-171F-4DB4-A259-50419AED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E37-EBAB-489B-99C6-65EF32E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450-A044-458B-9A9D-EFC7A070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7BF-1949-4AEF-B4FB-99F64B4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546-CD6A-4C94-A423-4C661ED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012-EC59-41FD-8775-F3EF331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64C94-03E3-4AA7-BD5C-EC2C25414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