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76108"/>
        <c:axId val="63785627"/>
      </c:barChart>
      <c:catAx>
        <c:axId val="9207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5627"/>
        <c:crosses val="autoZero"/>
        <c:auto val="1"/>
        <c:lblAlgn val="ctr"/>
        <c:lblOffset val="100"/>
        <c:noMultiLvlLbl val="0"/>
      </c:catAx>
      <c:valAx>
        <c:axId val="63785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E67-A2F6-4EBB-9D68-2AFBC4F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A80-DBC5-48AC-8E33-9B66F198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D63-A6F5-4EDC-8760-5645C6A7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542-C120-430E-8D88-E37359C5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CB4-395A-4384-AAF2-1CB6301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FD3-4337-4ECB-944C-CF17E131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142-5400-403F-B061-0B697A4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EE8-1964-4BC0-9256-AC2B5983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72C-0F4D-49F2-A9C1-636C07C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E1C-0DF0-4DEA-806D-8599724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473-47F3-4BC0-B44D-6F4496C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747-281B-444D-9B32-C82A94F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6C6A-4E3D-4F99-A37D-9E38256B5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