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402430"/>
        <c:axId val="7572090"/>
      </c:barChart>
      <c:catAx>
        <c:axId val="544024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2090"/>
        <c:crosses val="autoZero"/>
        <c:auto val="1"/>
        <c:lblAlgn val="ctr"/>
        <c:lblOffset val="100"/>
        <c:noMultiLvlLbl val="0"/>
      </c:catAx>
      <c:valAx>
        <c:axId val="75720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024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1FE3-456A-43D8-9B1C-064CB49D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12D9-78EF-4DDB-B323-83726B3D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DBC7-9329-47CD-8E5A-DD1B3B9E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AC83-4491-4FE3-B974-134C5A48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412D-3EFE-49E0-9607-AD3F19C2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1D6B-DFC8-44CB-BAE4-4D582B5F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62DD-D2C6-48FE-BBE2-9C7C7880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4331-3CC8-4AC3-B3E5-8C2F65D5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4B98-2B86-4C06-A487-E30F1A97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98E7-16D1-46CF-8FAA-0FC338E7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4284-40E9-4B4A-9B35-B388B335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0E26-5B0B-4EEB-A0A3-DE5EB98F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ACAD5-7E46-46E1-98B1-24E9A98054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