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6011"/>
        <c:axId val="36045047"/>
      </c:barChart>
      <c:catAx>
        <c:axId val="761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5047"/>
        <c:crosses val="autoZero"/>
        <c:auto val="1"/>
        <c:lblAlgn val="ctr"/>
        <c:lblOffset val="100"/>
        <c:noMultiLvlLbl val="0"/>
      </c:catAx>
      <c:valAx>
        <c:axId val="360450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B48-0F75-4FA1-A7F9-45AF425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5CF-FBA6-4EAA-8E49-87126B4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DC9-092C-46E4-83C2-747F5314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731-C96D-44B9-A532-5814F3A8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1F6-E7AA-411A-8B9B-9990DFB4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FDE-0EF2-4E56-A046-C6E4ABC1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925-C76E-4DDE-93D8-0CA38D0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605-2082-45EE-959B-E57BD0F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789-A73E-4AB5-AFA1-F706FA0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853-A12B-43F8-B6EC-7A4A87D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86E-8278-43C4-AFA1-613A74BB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3AA-D974-49A3-88F1-FB32D03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8E249-C61B-4CA8-9390-E227B12CA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