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FD1C075-C994-4369-BACA-0CBB8DDF23E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C8D91A3-5E5D-430E-BA95-5496FC9884B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56DDC93-AD31-43C0-8ABC-9BCADCFA5D7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E120603-F07A-4A58-895B-0D2208F7C21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9A3BCD4-1754-41E7-AE81-C810D4D8CC9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E69BA1F-1455-4621-9E34-35B1E777459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5D0F689-D21B-49A5-9079-DA6F88B734F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016F249-E2D0-4AD7-98AD-39CA40F24BC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3F15CE9-BD78-43C1-A3B4-D39BF22CF18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7F5F8EF-5B5F-4FD0-9E3D-233DFEBEB93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03043AD-6DFD-4BA5-9CED-EEF5F1248F9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D787ED4-D99A-4389-AB9B-BB40F91816A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1DA4841-3253-42D5-82DC-FF3C8EF5F0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0FC2D1-C56C-4953-A00B-B062DC776D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206CB99-FF30-474A-8C96-B7F065364C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D9B262F-030A-4857-870F-8A9A0C1C4D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E6A04C7-A715-4BAD-94A1-15490B0C8EE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9672A54-C0C1-4D13-ADBC-0EB624CB6BB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A652E8F-E2F7-4BC8-A0F7-583EE39327A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AED0ADA-E135-41E2-A51D-D3E101BBC1A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A1502F4-F294-4D0B-8C69-35533BED665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9674CED-0286-4BB6-AE2A-94AFC86FB7E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D4DB9F5-95F8-406C-A6C4-92B995B284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C02E42-809C-42EF-AD94-1CB7DFFA82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C567A1D-337E-4DDE-AAFD-4FB0DBBE93A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E9A2584-51AF-48DD-8705-9640FAD9153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E7AEEBA-F1CE-41BA-BEA8-5DB8FBDAE2B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69D9D0D-EE33-4A37-9CD8-553B3CF6690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7874338-9175-4A55-A7DB-533E99B167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66816E8-59F0-4FEA-9906-FFC4F7F444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49D46B-5F77-49E3-8D66-05A92C9965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2D4CB4-2381-4AAC-A14F-682A6F918D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89EC8AE-7B1D-47BB-AD96-0470688B8A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8C66A5-44C3-4BB5-9852-812E321ED4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0B6260-6D3C-4B5E-853E-F2A697022C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D1D59F-78AD-482A-94B1-77A17499C5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54A88-75AE-4AD1-99A5-72BB413D9246}"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14C1E-54A9-4732-83D4-A56B2A8DD0E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29DC946-2D66-4ED1-9D9A-28328B69506E}"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E58FF7F-F250-48C0-892E-5EE4F33CB2C7}"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5D97E6F-6D2D-4270-BDDA-C0031B919F28}"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EC821EF-CD36-40AB-B2DC-296A81AD70C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35106E3-F0D0-4F7D-995B-C023FE0CF7DB}"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8DC3316-F785-4CCB-A4C5-EB2A3388604E}"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FA206D0-9A5D-41AA-AA50-6F3CF6B0478D}"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520EBAD-A995-41E3-A693-3ACC0E87C8D2}"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71492EF-E5B9-4574-9C3B-6F9EEE657E4D}"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849E6D6-D047-4045-8321-C0C34ED61C7C}"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352C66F-5D4D-493F-9473-A9DF5A14E7B5}"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DC381D38-3859-45B2-8203-851D0B751C08}"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DC85381-3298-42E6-8129-0896D269E6A0}"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5F5240D-4C8E-4281-B5B8-271516F43AA0}"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D800F13-585A-4E18-BB71-8722711E236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C668DF8-43AF-4777-8679-94E7BDC53545}"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8659856-08D7-4114-AC96-DD4D60C43F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E3C993B-DFC1-405E-AC59-848E0AD500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EDC2915-4221-4826-9F46-2C62457E3825}"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EE364C6-31DF-44C9-86A6-F9C1F26EAD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6571539-1E8F-4BA5-BC90-5251587DEE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4C601D0-1659-4D89-91D8-A40FAA657D56}"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86F52AB-2DF9-4420-B447-949F0DA795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4C99DF0-D108-49D3-B59E-46109C0BFC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797BF27-5323-48AC-A149-B237F02537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21669DE-2229-42B7-BCFB-B2BC3DB09E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CAF9B0B-BD70-4258-8232-65462E2201B8}"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4C3D9A3-A6E6-41C3-98E8-7A8452973D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0D55743-6C86-4E96-AF0F-079DC2C90C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16BA070-421B-4811-B9D6-86D93D7FE888}"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BDA126D-A399-491B-8E14-F5205FB14F7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4AE7B6C-5DC0-4F20-8A7A-BB86AB0F2CE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490E001-D305-417D-9ECF-E6B7ABD28A6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FD5BC4E-7B49-4B12-AE5A-C8BF117621F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36CAFC4-3DF4-4A6A-A73D-0AC8F6D4BEF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8A7AFB6-E4EC-4620-A566-0C2EE6F5333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ACE35D3-AAAB-435F-8836-259353C1ECF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1368DBD-4DEE-4DB4-923C-126661F3125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5876BCA-4A6E-43DA-8DB7-82F8C9816F3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73BB41C-D3C2-4C34-9809-085360B8241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505117B-BC8F-41E4-BC9F-DF4E8369B36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50BE3A3-679B-4B74-9B3F-21E1FB4D7B3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5DF0C14-41EC-4AF4-A124-E2E4767FD74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BDF0C57-FA0E-4913-9746-210A76E70C5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D1754E3-9F39-4DF9-9FBA-C4A3AF0A619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2B31C4D-0B93-4DB6-A662-C0F552DB9E24}"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0E7CA2A-E44B-453B-A94D-D6E95427906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DDD234E-ACB9-42AC-B79F-1D929F762E8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2E2776D-D037-4D69-99A7-2540FC0F3C2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54CB3DB-DEB0-4013-84DF-3164269850D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8893A9D-39F9-4902-BB13-79BCC4C44B19}"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5CFB0CE-5358-44FF-866E-FA242E61B942}"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C09593F-DE6B-403F-9ADF-CCA816BBF0D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CBAB8DC-E16F-45BF-BE6E-CB03A707F33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E517BBA-DA07-467E-A081-1DD1BF9F2B16}"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D039057-3870-4E6E-8138-9BA2992D9721}"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81DB2C3-08AF-456D-83A2-095040C486AD}"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9C55828-9A72-4A5A-AC80-C425948327AB}"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6033A0B-DF85-42EC-A058-A02DED949D9F}"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201DF79-74A8-45FB-B078-9C1756ED4A6A}"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2D622DF-71AC-414B-8BF7-31007601AAF9}"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6CF8F0C-38F8-422F-9556-225A3B5425F8}"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E30A4FF-98A8-448D-A849-3C96A9F15CAB}"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62070EE-B8D6-40A8-89B8-C6157D081070}"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2E25E82-13DA-454E-8D1B-1C5340233E6C}"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1CB6623-9071-4996-82B9-0E975A60AD32}"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6740AD8-C717-4E42-BF0B-8FDA6D993F0F}"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62045CD-0BDA-4478-9E58-18A5DA4184E7}"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0F18308-6E69-40ED-BA8D-B4C44B7002BC}"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AE48AF4-5DD7-4E3E-B879-0492B24F7904}"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71A89EF-CE0F-486B-8E07-A2DA263FF6AF}"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C902D0B-FAED-4852-B6D9-258B58234FF4}"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2D0B157-3922-44BE-A5A3-E809F8C28870}"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5224373-5A2F-4EDF-BD69-1AB3C7A91786}"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25E9033-210A-427F-B7C2-B80B3D8AB069}"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A9D2E43-CFF0-4DEF-8BCF-C950B3B53240}"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CFB2A28-954E-49F0-AA36-5AEABAB4CE9F}"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00138F7-15DF-488F-873B-CF0FC2B188E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11732B3-6119-4777-B857-DF7B69DA907B}"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ECD3CBC-19BC-49FF-8422-83365BDFEA4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56FE807-0C66-4DDC-A033-3273FBA38543}"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D243842-AC69-4C0D-A9D0-AC905EAB690F}"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F7E06FD-BA1C-44E2-8F6E-D89CE143F952}"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A013442-2FF8-40FC-B5C1-E3F2731F4552}"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3AED7BD-6E57-4C1C-92DD-AD62CC554B09}"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DB36EC6-396C-4477-99C2-FD277D9441D0}"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2A7CA42-C8E6-4AC8-9926-E04DD72C24EB}"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6A15B71-6B5F-4487-B542-550F114B9FC9}"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8B5E3E0-AD04-4849-8107-5EE7C58C10DF}"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85DC2E2-A8EC-4900-B0D4-C20BCBA99E59}"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133D3A4-0554-458A-9A9F-E4045FF8570B}"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EF2A72-18BC-43D6-B9C7-D84C6218FA92}"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098A9F2-E3F1-418B-8FDF-0F5CC7888F09}"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EEFE89D-5014-465E-9545-FC881CEDCAB4}"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07F81FB-6F97-483D-A5DD-A230A7E7EED5}"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A47533-1A16-4995-A358-E89B01E144D8}"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2067102-2E70-435E-A14E-F2CC491CA808}"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7A9B16A2-49AE-4D92-8F9A-3D43F02AAEA6}"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32B5FD1-725C-41DA-85D8-F7E9EF27752F}"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3443648-4406-4F04-A89D-EE79B88B44E1}"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6D37319-4AA3-4FB4-A4C6-44399687B76A}"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350B9F0-F41D-4C2B-802E-B12A4F59DD16}"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2DBF50-C484-4347-BECE-3377313D0558}"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4B9946B-8E7C-48AE-B0EA-05CF824430C4}"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B24BEFA-AE6A-410A-9EF8-4A54FABD5AD6}"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9091A65-5DA9-4343-BC69-AE1E51B3737F}"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645480B-FB97-4022-9ECB-4F2B44C76596}"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9F06BB2-58BB-463B-ABD7-9A29C713EED0}"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62C0CF0-0425-4567-BDAA-D205C0E24661}"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5DB103C-5D77-484E-9921-4505DF2F1C18}"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3374B30-F21F-40E4-946F-05B083B21A1B}"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