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489FC37-E839-4BE4-B1C8-6F72033E038F}"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169ED19-F819-4547-8383-20D56C7584E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A70CC3C-F700-4165-9545-4D2809AC7C6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9D6A447-B0B6-4DF0-9A07-9C7BB382481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851550C-C655-476E-A1EA-82C012A0C47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D08E0F4-5831-4FAA-B32C-B2893C71C4E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E51FF82-5B40-4CDE-BA98-FD17510BC53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EB8F0D0-B971-4128-A334-0C90E6F32FC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C873974-4D0B-4E93-A4D6-759738B0505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9C929A3-EB4E-4588-8895-3668E75413A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110EBD0-957C-42A8-8B63-4011B41ABA8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DAA5E21-3158-4632-B0CC-4B63A7C6ED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1FE706-8037-4D2F-BD95-3815B589F9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058E0CF-0A35-408E-AD3A-D45C8E754C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C535E0A-D0C4-43AC-91BB-7700C377F4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E57CF49-6C40-4838-B055-CED109747C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68EE7D1-A495-41EC-8119-E69CC6E0D9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8439C42-47D5-49E6-8F14-0D8091BC924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7539B8D-A97B-4093-B1F4-C15580801AE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501D7FA-D783-445C-86EB-381CB0EB69B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291CCD0-5B1A-4BDB-89E4-B2FE5823457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F54324A-DF52-43AA-8D2A-C987153FF0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9EFA6B-7F22-41F7-B0BC-92950318DF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C074267-8832-47E0-89B5-9FEDF2BD9F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5716798-EF72-4A99-A03B-3D6ADF3FDB4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DE103B4-FEDD-4C24-8A0A-D2422C71D2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1A62E55-2551-4C69-A23B-BC3BD8851D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1E9BDB8-E30F-46B1-B69C-0C44722B99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8962C7-74F2-4AD7-A8B2-D6BD198A2B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D613F2-8C4D-4F4B-BEB2-A17F2F11BB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446A60-6817-45B0-9FE8-5D2884426F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ED99F5-0148-47F5-8975-A8DB3D0930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0C6FCB-E194-4AB7-98B5-0079684603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E6AD3E-C9E7-48F9-8955-F694E72494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631926-126C-4C08-8463-9960EF4CE8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0716B-6A5B-4EF0-8BFF-A68604B0BAD1}"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B459E-122C-43BC-97A2-D090A2280FC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901582B8-F823-4825-B44B-E507DC2700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17FA934-241B-423E-95EB-7F8AD946EE1C}"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4FB3CC8-33EF-4F17-832C-99ECA67AEB9C}"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5931279-2295-4B03-90B9-D6A1EAC70173}"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CA2BE5E-2222-44E1-A77D-E7A1AC250239}"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8F9EEB5-63AF-4372-85B6-58C018512621}"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0BDACB-EF04-4EFC-BA6F-98002C1D00AC}"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CCF3046-9ADF-4680-B98F-BD4BD3F763D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32AC404-99D9-46B7-BB81-EBD32DD4B74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EF9DB9C-42BA-4133-8248-EDE88735CA70}"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947AE15-AE01-479D-8436-50EFB67A4C88}"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289DC33-6521-4935-9EA2-F95341F88906}"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4DEC84F-CC01-4EE3-8E0E-47CF40750E57}"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B3354A8-59DD-4C7F-A424-C90574F33BEC}"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19CB163-C288-4366-BBA7-0BABFAD62751}"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93E83E2-BBA5-4BFF-A703-917DF073A287}"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B4BB225-FEBC-4DFA-99D2-0016FB8F9324}"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6FAF8D9-EA32-4414-8F69-2386CC8D6AAF}"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95A60B86-8BE2-4DF5-9949-E4E359A39BFC}"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A16E8292-FCD2-452C-9533-2F9D9A5284DF}"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F1BB1F6-343F-4682-9A84-646D40627D8D}"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EF00C47-2C4F-4FBC-BF02-21C9862AB33D}"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F6A85F8-E078-4322-8F89-4C55DB4DB76B}"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71D6180-5B11-4CF1-9E1C-BBCFCB6B59BE}"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D258BCF-D5DA-48B3-8A65-11398D6092B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BBF52EB-9781-46F6-9B2E-2BCF741BAF2A}"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7826064-D44E-4C39-AEB6-02D0450E42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AA61B8A-9057-47DB-A2AE-DA8DAB6F5A7D}"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ED5D1163-587B-448C-9638-0A0B1ADE14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C7A0A90-3D3D-4330-BBF2-54904A2B76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1BAED7F-DA4C-4C60-80AD-3FC6FAFD25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8F486BA-190F-4F95-9A1F-AD3DF2C4D8B8}"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334DA1B-8F8A-429E-AB20-8B40A84FA4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609E6ED-BF00-4044-A693-E285E71D61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19952D0-AF04-4B19-BC4A-55CDB58262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4165244-2EE6-4E80-9843-58ADC9DDE1F2}"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1203429-B736-46DB-BB6D-3F4045EDA6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8B866A3-7F84-43DB-A1C8-C6E19289E4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34B65B5-4114-4FB9-9792-DE39AB3E4A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E788C68-057D-44D0-AB4F-468396003C8B}"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4B7F4DE-FF60-4560-B77F-F7E9186B28A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1F0180F-0953-41B9-BF7A-23F1FB327B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2F36F49-F000-4619-B9C1-A125CBE538CD}"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3C82E56-9489-45CB-BB57-4A592A3868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47683CD-A031-40AA-B157-7F781D3A039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EED53B3-539B-4CA8-8102-A98EE24332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36AC77F-44D6-426D-AC04-39C1E0D8FE1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380A3AC-5B13-4B62-BC8D-58FF5340217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D0515BC-1FC9-4FDD-9E71-5F3D5DA9DAB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6C0647C-92A2-4C9B-B442-08B3BD7471F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A723DC9-5EBC-4224-A340-323B8664DA4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0CCE2CD-8E1A-4EE1-A165-253E3B7707B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EDE3F44-53E2-4DDA-A443-3EA56D88847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3AD3AC2-B93C-4C5A-9B8E-8B4C9DA5696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81CC32C-365E-4501-B3CE-95125942570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AA1C9E6-1EF8-46E9-A5DB-EEF2F8E28FF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DB7D1D2-08DC-412D-AFC4-17BC915A034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9070286-97C0-42CD-B0D0-ABA1C034FDF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958E8F2-4633-4E0D-84E2-A288753BFEB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CE2051B-60AB-452F-960F-126A20C5DD6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8952094-110B-40CA-9F62-AB5A9751F4E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07076BD-E377-4211-913A-0731E40E548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1A998AD-CD41-41FA-831C-F39B1B59F82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D930D32-4530-43D8-B7BB-48ABE6AA6124}"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26300FE-AAF8-4FB7-B03B-D8A36E255A13}"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324576B-0F8A-4488-8EDC-04C950A956B6}"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9DF7050-36DF-435D-ABF1-1E7D89AC023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5CD7F8B-57A4-4DB4-A009-8FBB1430ED5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03D5B64-97A8-49C8-A220-0DA2D0894EF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D972C35-E675-464C-852B-DF9B4BD9096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66F569B-ED9F-4453-83BB-095DAA4255B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731E58F-B24B-4956-8C3E-09A0D3DD8A4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803AC73-F508-4FC3-9B52-5C93C21B551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B23516A-2A61-4AAC-A89B-7793D17DED5F}"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8A5D47E-E8C1-4107-B183-4F9735F5D79A}"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0E873F7-190F-4FC5-BB45-C2224A44362C}"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162AAB6-EB9A-4920-BAFA-22636D381C8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7044EF2-EF6B-4527-B88C-0AF70FF7185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6C0BF64-1705-4FA2-A21C-51AB8BA785ED}"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921326-EC20-4B32-BC50-5F58C93FF98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9D47A6D-E875-4E53-96D4-A5AED4308A92}"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1E4461D-ADE5-4F74-876E-9EE2259FAC4E}"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37FAB86-537A-4ED0-93BF-9B4372877EB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72F077B-201A-4F4E-ABB5-955DACB1ED0A}"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B9A03A1-E105-4346-B308-D40EB42B2FC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04DBCD1-AAC6-4CC6-8B88-EDC51193FF14}"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1F13BC1-1880-47B5-A927-17C7291C6316}"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38E9373-3556-4A3F-8E2F-A1646F50E033}"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2E4438A-244D-4649-A522-61B3899258CF}"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A2AD0DE-8839-4918-A477-61E38BC07805}"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4574643-8C20-4CE3-A18B-E991212E220B}"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FDFA2A2-13A5-427A-9C97-1C814A867741}"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CF5CECE-5FC9-4990-9FC5-5EFA5E8C0AA3}"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4D21FAE-5209-4B48-8728-033278777934}"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889359C-58D8-4C5B-8D76-FBDB90AEDD17}"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C42095-1438-4452-9B30-4D6BE9B5BE1B}"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016698C-61E0-47A2-8C70-C03B1F0AF7AF}"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DD136D68-4DBB-4B63-81B9-DA09E91DED28}"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5BF7140-92FD-4B2C-9B10-F6D8CFF573BB}"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325DD09-7C4E-45CF-B69C-459CD9D1723C}"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11C45D1-DAD8-4FA4-AE3C-E3EC1ECDED95}"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1C3C375-BF05-40D5-A7D8-548AA80C9D83}"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61C0CE5-C975-41B9-B16B-E5A24E558090}"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ED800FA-0AC4-46A6-9825-D7717480807F}"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4C0B51A-CA94-461F-82B9-FBA0AC24E710}"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25F1DA5-2EB6-4CEE-9EFA-4C0B3F4FF47A}"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0126D32-0AE5-47B6-8DDD-BAC0CDBCBD3D}"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F9D981D-8232-4537-895F-4561E959FAEE}"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D0A0BC1-0C13-4D38-9715-272BD5EA0FB0}"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213D8BEF-3AC5-40CF-B060-AF732D4E22DC}"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704BCAD-1198-40A0-98B3-DB1686261449}"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57781E6-5AC0-49D7-977E-0E85ADA33638}"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C7EA5E2-0D27-44B7-88E3-2A41307009FB}"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C968E2C-CA66-4AD1-91B4-836F5C0E686B}"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05F287B-B1C6-45D6-A34B-453DF6EC572D}"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C4A8131-6857-4ECE-B8D4-9C00BCD96EE6}"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triangle"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C3EDDD5-343D-4A7C-9FE8-DB826F115308}"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58DFF1C-E884-4426-A45F-59207BF90C30}"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C4AF440-CA94-4CD9-92F2-81D9DAF25D26}"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77ED92E-59BC-41CF-91BD-3AD2DC50BD88}"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triangle"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216DC3E-E2BF-4A54-94AC-D1BB1DAEE0E0}"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