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8378056"/>
        <c:axId val="71620474"/>
      </c:barChart>
      <c:catAx>
        <c:axId val="8837805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620474"/>
        <c:crosses val="autoZero"/>
        <c:auto val="1"/>
        <c:lblAlgn val="ctr"/>
        <c:lblOffset val="100"/>
        <c:noMultiLvlLbl val="0"/>
      </c:catAx>
      <c:valAx>
        <c:axId val="7162047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837805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D26CB-8EBF-443F-A7E3-B00818B44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6C7A1-3D35-433F-AE0C-F3160441E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E2171-4683-4098-B7C0-E589E0863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8EBED-56AE-49AB-92E0-8956F0465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67257-3EFB-45E3-B76E-76ED3AFCE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11AC7-FC6D-4756-B5B8-86E51E3C2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2B6D1-D8DA-4135-9869-7694C4E02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6D260-854F-48D4-9219-A687733D5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D109D-255D-4E91-B06C-ECED3AFF4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AE816-2A7F-4A75-A84F-5A4A4E4EB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9D4D9-A992-4374-B682-B45C0BC42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2BE59-8457-44A4-9616-9FBC95CC3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126520-CCB6-46FA-A08A-EE96B81B1B1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