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51589"/>
        <c:axId val="47116890"/>
      </c:barChart>
      <c:catAx>
        <c:axId val="95151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116890"/>
        <c:crosses val="autoZero"/>
        <c:auto val="1"/>
        <c:lblAlgn val="ctr"/>
        <c:lblOffset val="100"/>
        <c:noMultiLvlLbl val="0"/>
      </c:catAx>
      <c:valAx>
        <c:axId val="471168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51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F64E-1E51-4D98-901B-D909EB34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6E6-5611-4DE3-8B72-6D444A83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1EE1-77B4-4F46-9695-F2527EB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2A57-CE0E-42DD-867D-B1B68B17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6F4-7740-49B9-AB2F-2203F308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DFC8-CB9B-48CE-9093-1C03C7DF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70C-D076-48BF-94EB-FDC4492E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BCD-6654-4D2D-912D-8F70D6E8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2E9E-2796-42BA-B22E-FEECEC0E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38B9-5843-42FD-AB5F-022E27F3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DC1F-FDFA-4BCE-9FF2-CFEFD9B4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4FA-F499-4B4E-A19E-C8C9E8BE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3A49D-8663-4BFE-ADD0-63DB689193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