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68692"/>
        <c:axId val="5481565"/>
      </c:barChart>
      <c:catAx>
        <c:axId val="56568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1565"/>
        <c:crosses val="autoZero"/>
        <c:auto val="1"/>
        <c:lblAlgn val="ctr"/>
        <c:lblOffset val="100"/>
        <c:noMultiLvlLbl val="0"/>
      </c:catAx>
      <c:valAx>
        <c:axId val="5481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68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CC9-C152-4503-ADB8-8ED590A1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47F-DC85-4BBF-865A-93EEDA44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69A-8F23-4A73-B949-5B90F3F4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984-9B0E-419B-8C89-7D3350B0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07C-3E06-4926-94CA-3C5B39EB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B35-9041-40E8-8446-39F51E57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EAE-450E-402C-8DD0-36CD6FD9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AFB-E425-4723-ADD7-45F4EA45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F22-5EF5-4628-A336-205813ED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539-216B-4A44-93B2-8C027253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960-5780-4F1F-9503-20C7AD25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675-E48E-42EC-B613-C4259A5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13B85-877D-4FF5-935F-F2172E9424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