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135967"/>
        <c:axId val="86218408"/>
      </c:barChart>
      <c:catAx>
        <c:axId val="47135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18408"/>
        <c:crosses val="autoZero"/>
        <c:auto val="1"/>
        <c:lblAlgn val="ctr"/>
        <c:lblOffset val="100"/>
        <c:noMultiLvlLbl val="0"/>
      </c:catAx>
      <c:valAx>
        <c:axId val="862184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35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4EC-5D39-4764-8FC0-07A6C19A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0CA-349D-4C02-9F57-A60A37FD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678-0954-4C06-BE2E-6D68760C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B5B5-3D44-4ECC-9F71-B07B6A15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09A-AF8B-4833-81FC-718435EB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195-26A7-47D0-9AFC-7F29CDC1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780-7D3C-4111-BCBC-641573D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7C8-77BF-4119-9FF7-27E7EAE8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2A0-12C1-431A-BFC6-4F840E5D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983-EE13-4A1C-A2A2-2EC4187B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197-9B67-440B-BC3E-5DACFD04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A20-4631-4DF2-BBE1-70B4633B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5D2A1-8996-4F19-B355-F0B0ECF839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