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18889"/>
        <c:axId val="65419166"/>
      </c:barChart>
      <c:catAx>
        <c:axId val="11718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9166"/>
        <c:crosses val="autoZero"/>
        <c:auto val="1"/>
        <c:lblAlgn val="ctr"/>
        <c:lblOffset val="100"/>
        <c:noMultiLvlLbl val="0"/>
      </c:catAx>
      <c:valAx>
        <c:axId val="65419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8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F81-5F6F-4D62-B66F-8D3DDD8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4EB-BF37-4C25-AA0E-7B46C08A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A0F-D569-4225-962C-99BC51F3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7F0-68FF-4CF4-8F55-983DA96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AED-F535-4032-87A6-DBC80F6D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B00-113A-4693-A40B-7D1606B6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87B-5FFA-4442-B9CC-055ABFDA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09E-8D48-415F-9532-F6C217D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0A6-FD13-47F2-AE24-A7D386D5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D6C-FC24-46A6-A21F-65EBD1E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D69-95E3-4C5E-B1A8-5933026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D44-C9A0-410A-9BEF-141CFC12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DCBC0-9AA2-4394-A7AC-70B8E2401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