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099116"/>
        <c:axId val="70779030"/>
      </c:barChart>
      <c:catAx>
        <c:axId val="390991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779030"/>
        <c:crosses val="autoZero"/>
        <c:auto val="1"/>
        <c:lblAlgn val="ctr"/>
        <c:lblOffset val="100"/>
        <c:noMultiLvlLbl val="0"/>
      </c:catAx>
      <c:valAx>
        <c:axId val="707790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0991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35B3-EE52-441A-AB84-7CF293B89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6F2B-D87E-4EB2-9757-15D0CE12C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C6D5-9F55-4D45-B731-5B1BB4912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7208-0FAA-491B-BF05-12869F640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5E30-332B-460A-8727-11D76D50E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E08F-B201-41FF-8489-6B79AC87C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9132-D37D-4F67-90B4-FB9861FD1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9CE0-91E2-4EEA-9776-0E4A27218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5F4F-9355-4F63-BBED-FC08BCB75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C3F6-6C88-4B65-85B5-ADEF6B654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637C-BF56-49E6-9800-06E78B66A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7721-5B19-438E-8FC9-9D4F97208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3FE8B1-5316-4264-91E8-C3909F02396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